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472-1253-4253-AB5E-94D02F9D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14F-FBE7-45E9-9CA2-C54164C1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B5D-D68D-457C-9F0A-6DCAA314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5FD-3C60-4F94-BAF0-64CD83F9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FEBA-F522-494E-BF7E-E3F4EE58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5EB7-4310-42BF-9265-DE04751B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BDFB-4F58-4281-9C43-98A14645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6AA8-0CA3-4EC1-8244-A1563A9A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1403-4A73-4B52-9166-2D78880B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2210-41C1-4D04-948C-11CB363C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BBA6-A6C4-4394-8854-55DC0324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683-B9B9-4C97-8CB3-77B1F477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3A89-AD65-491A-AE3C-837EA590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F712-FBC7-4243-AE3D-5D11801B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73DD-626B-4700-86E9-F83A5958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2B8F-3354-4767-B139-FDC1CD69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496D-00CF-4A3E-86A7-70F94724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12D-5184-47D3-A42A-0FADB311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30F-285C-4C04-A98F-E6582C7D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68C-EFBF-48C1-B6A7-08E292FD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5EB-5C77-4FBC-98CD-08B99958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375-B41F-49A0-9CB8-4C27361D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559-3201-4182-8336-0432BC16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227-31E0-4704-9C6F-D8DE1B2C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AEB1-E127-4BB0-A998-C3261C6C0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993A-9B41-44D5-9B06-ED7A39BE5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atural Sele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bilizing Se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ects the extremes of the pop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al Sele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s the extremes of one end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ruptive Se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s against the “average”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-Dependent Se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creases the frequency of more common ph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u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opulations of two different species interact over a long period of time, changes in the gene pool of one species leads to changes in the gene pool of the other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ator and prey; flowers and polin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lerian mimicry = toxic look-ali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esian mimicry = non-toxic look-ali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first i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nvergent vs. Divergent Evolu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nc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les and sh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nc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vs. polar b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uins vs. other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radualism vs. Punctuated Equilibrium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dualis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olution occurs as a slow stepwise development of a species over long periods of time (millions of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nctuated Equilibriu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 species arose suddenly in short periods of time (thousands of yea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tin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anent loss of genetic diversity that affects the evolution of macro evolutionary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oes evolution affect biodiversity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tion minus extinction equals bio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 is a natur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sconceptions about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al of the fittest is different from survival of the stron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did not evolve from apes, they both evolved from a common ance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are not becoming more “perf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ory vs. Fa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theories = integrated explanation of many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lways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he same as comm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nly dis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are pieces of information that have not been ref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ctual Evidence for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-scale changes observed or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-scale changes in the fossil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is not a ladder but a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sequences have been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stigial signs present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ge of a population’s genetic makeup through successive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, not individuals evolve by becoming genetical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pecies descended from earlier, ancestral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s Fact – Natural Selection as a mechanism is a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olution by Natural Sele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had been thought of for centuries but mechanism was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Darwin (1809-1882) wrote “The Origin of Species by Means of Natural Selection” in 1859 and put forth a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Galapagos ecosystem as a ship’s natur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5 Premi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ty in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tion that can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er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d traits cannot be pass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genetic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by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l reproductiv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mulated changes leads to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cro vs. Macro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evolution – Small genetic changes that occur 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evolution – Long-term large-scale evolutionary changes among groups of species in which new species are formed from ancestral species and other species are lost through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cro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31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genetic variability in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 -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Selection – genetic bias for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Flow -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Drift – ch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rtificial sel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moth1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810240" cy="1992240"/>
          </a:xfrm>
          <a:prstGeom prst="rect">
            <a:avLst/>
          </a:prstGeom>
          <a:ln w="0">
            <a:noFill/>
          </a:ln>
        </p:spPr>
      </p:pic>
      <p:pic>
        <p:nvPicPr>
          <p:cNvPr id="140" name="moth2" descr=""/>
          <p:cNvPicPr/>
          <p:nvPr/>
        </p:nvPicPr>
        <p:blipFill>
          <a:blip r:embed="rId2"/>
          <a:stretch/>
        </p:blipFill>
        <p:spPr>
          <a:xfrm>
            <a:off x="5486400" y="2819520"/>
            <a:ext cx="2617920" cy="3108240"/>
          </a:xfrm>
          <a:prstGeom prst="rect">
            <a:avLst/>
          </a:prstGeom>
          <a:ln w="0">
            <a:noFill/>
          </a:ln>
        </p:spPr>
      </p:pic>
      <p:pic>
        <p:nvPicPr>
          <p:cNvPr id="141" name="moth3" descr=""/>
          <p:cNvPicPr/>
          <p:nvPr/>
        </p:nvPicPr>
        <p:blipFill>
          <a:blip r:embed="rId3"/>
          <a:stretch/>
        </p:blipFill>
        <p:spPr>
          <a:xfrm>
            <a:off x="1447920" y="2971800"/>
            <a:ext cx="2514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croevolut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Creation of a new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Isolation (Allopatr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ve Isolation (Sympatr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m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atural Sele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survival and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al of the fitt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3:14:39Z</dcterms:created>
  <dc:creator>Pace Academy</dc:creator>
  <dc:description/>
  <dc:language>en-US</dc:language>
  <cp:lastModifiedBy>Pace Academy</cp:lastModifiedBy>
  <cp:lastPrinted>2003-09-24T17:21:38Z</cp:lastPrinted>
  <dcterms:modified xsi:type="dcterms:W3CDTF">2006-09-15T13:48:30Z</dcterms:modified>
  <cp:revision>11</cp:revision>
  <dc:subject/>
  <dc:title>Evolution</dc:title>
</cp:coreProperties>
</file>